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ARP_01_W_COUGH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BE3-1F49-45C9-8388-2548A97A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665-155A-4203-A4FE-3D237B1D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76C-5345-4CB1-9458-30D4ED8A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40B-93B2-4EAD-852E-88B2BC04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43F3-04F5-4A7E-9DDA-C95661C9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EE23-76BD-40A7-91F8-C7815C47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89CE-3B79-4E69-A2D6-545EBDE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DA4B-8E50-49F9-AACA-CBB5F9EE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789C-01E5-4C42-9F7A-B2A7FB2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37C2-F4BA-4253-846E-5EF614BF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AAB-9A5A-4077-AD68-98F71FB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5F4-3C0D-4489-9EEA-FAA3379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4188-4540-4C4A-87F5-6AB73AF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29D-02CC-43F7-AD16-72D975D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F1FE-47BF-44BD-B786-696257FD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607-5117-469A-9292-0DA32636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7CF-652E-4FAC-8785-6BC77FBB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881-AFDC-4C32-99AF-E5C200A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638-1D43-4446-A2A1-2821BA0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17E-07BC-4C65-A096-E5C0EDD4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CD8-E0CC-4595-9A17-9610F4E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2C5-431D-4822-9068-BA4CC96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320-0AE9-4BCF-A025-2A34B27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171-4385-430E-8E7A-0EB64E15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5f5128"/>
                </a:gs>
                <a:gs pos="50000">
                  <a:srgbClr val="cfb057"/>
                </a:gs>
                <a:gs pos="100000">
                  <a:srgbClr val="5f5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fb05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BAE-CACE-4AFA-8ED3-35A4DA8AEDA4}" type="slidenum"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cfb057"/>
                </a:gs>
                <a:gs pos="50000">
                  <a:srgbClr val="5f5128"/>
                </a:gs>
                <a:gs pos="100000">
                  <a:srgbClr val="cfb0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7C2F-DE8E-4658-9DED-4C7250935A1C}" type="slidenum">
              <a:rPr b="0" lang="en-US" sz="1400" spc="-1" strike="noStrike">
                <a:solidFill>
                  <a:srgbClr val="33332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P_01_W_COUGH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ARP_01_W_COUGH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ARP_01_W_COUG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audio" Target="../media/ARP_01_W_COUG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audio" Target="../media/ARP_01_W_COUGH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audio" Target="../media/ARP_01_W_COUGH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ARP_01_W_COUGH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3500280"/>
            <a:ext cx="8028000" cy="2737080"/>
          </a:xfrm>
          <a:prstGeom prst="rect">
            <a:avLst/>
          </a:prstGeom>
          <a:gradFill rotWithShape="0">
            <a:gsLst>
              <a:gs pos="0">
                <a:srgbClr val="146c88">
                  <a:alpha val="49019"/>
                </a:srgbClr>
              </a:gs>
              <a:gs pos="50000">
                <a:srgbClr val="cfb057"/>
              </a:gs>
              <a:gs pos="100000">
                <a:srgbClr val="146c88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5867640" cy="151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2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200" spc="-1" strike="noStrike">
                <a:solidFill>
                  <a:srgbClr val="e6d5a6"/>
                </a:solidFill>
                <a:latin typeface="Angsana New"/>
                <a:cs typeface="LilyUPC"/>
              </a:rPr>
              <a:t>วงจรเรโซแนนซ์</a:t>
            </a:r>
            <a:endParaRPr b="0" lang="en-US" sz="6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197000"/>
            <a:ext cx="8028000" cy="2160720"/>
          </a:xfrm>
          <a:prstGeom prst="rect">
            <a:avLst/>
          </a:prstGeom>
          <a:gradFill rotWithShape="0">
            <a:gsLst>
              <a:gs pos="0">
                <a:srgbClr val="146c88">
                  <a:alpha val="49019"/>
                </a:srgbClr>
              </a:gs>
              <a:gs pos="50000">
                <a:srgbClr val="cfb057"/>
              </a:gs>
              <a:gs pos="100000">
                <a:srgbClr val="146c88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492360" y="1483920"/>
            <a:ext cx="3168720" cy="140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29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9600" spc="-1" strike="noStrike">
                <a:solidFill>
                  <a:srgbClr val="146c88"/>
                </a:solidFill>
                <a:latin typeface="Comic Sans MS"/>
                <a:cs typeface="KodchiangUPC"/>
              </a:rPr>
              <a:t>บทที่ </a:t>
            </a:r>
            <a:r>
              <a:rPr b="1" i="1" lang="en-US" sz="9600" spc="-1" strike="noStrike">
                <a:solidFill>
                  <a:srgbClr val="146c88"/>
                </a:solidFill>
                <a:latin typeface="Comic Sans MS"/>
                <a:ea typeface="KodchiangUPC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ru"/>
    <p:sndAc>
      <p:stSnd>
        <p:snd r:embed="rId2" name="ARP_01_W_COUG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908000" y="522900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6504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  <a:cs typeface="LilyUPC"/>
              </a:rPr>
              <a:t>รูปวงจรเรโซแนนซ์แบบขนานและกราฟกระแสเกิดขึ้นในวงจร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209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0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835280" y="620280"/>
            <a:ext cx="6912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Arial"/>
                <a:cs typeface="LilyUPC"/>
              </a:rPr>
              <a:t>วงจรเรโซแนนซ์แบบขนา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99480" y="458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วงจร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4240" y="4581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กราฟกระแส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แบบขนา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3382920" cy="194292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292720" y="1989000"/>
            <a:ext cx="2951280" cy="232272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195640" y="2565360"/>
            <a:ext cx="0" cy="503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3357720"/>
            <a:ext cx="0" cy="57600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2565360"/>
            <a:ext cx="25207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2997360"/>
            <a:ext cx="72720" cy="71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916000" y="3068640"/>
            <a:ext cx="215640" cy="71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141720"/>
            <a:ext cx="215640" cy="71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916000" y="3213000"/>
            <a:ext cx="215640" cy="73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16360" y="3284640"/>
            <a:ext cx="215640" cy="73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429000"/>
            <a:ext cx="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059280" y="3357720"/>
            <a:ext cx="72720" cy="71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565360"/>
            <a:ext cx="0" cy="43020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3720"/>
            <a:ext cx="25207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429000"/>
            <a:ext cx="0" cy="504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0" cy="144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5" name="ARP_01_W_COUGH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10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203640" y="981000"/>
                <a:ext cx="3057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 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76720" y="1844640"/>
                <a:ext cx="1081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708280"/>
                <a:ext cx="2394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0</m:t>
                    </m:r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19640" y="3573360"/>
                <a:ext cx="10094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19640" y="4221000"/>
                <a:ext cx="1728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แบบขนา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1125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Dotum"/>
                <a:cs typeface="LilyUPC"/>
              </a:rPr>
              <a:t>ค่าความเหนี่ยวนำและค่าความจุที่ความถี่</a:t>
            </a:r>
            <a:br>
              <a:rPr sz="4800"/>
            </a:br>
            <a:r>
              <a:rPr b="1" i="1" lang="th-TH" sz="4800" spc="-1" strike="noStrike">
                <a:solidFill>
                  <a:srgbClr val="9fddf1"/>
                </a:solidFill>
                <a:latin typeface="Dotum"/>
                <a:cs typeface="LilyUPC"/>
              </a:rPr>
              <a:t>เรโซแนนซ์ขนา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1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/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67280" y="2852640"/>
                <a:ext cx="2008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 f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067280" y="4221000"/>
                <a:ext cx="2008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 f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ค่าความเหนี่ยวนำและค่าความจุที่ความถี่เรโซแนนซ์ขนา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1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9fddf1"/>
                </a:solidFill>
                <a:latin typeface="Arial"/>
                <a:cs typeface="JasmineUPC"/>
              </a:rPr>
              <a:t>แฟกเตอร์คุณภาพและแบนด์วิดท์ในวงจรขน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43280" y="1484280"/>
                <a:ext cx="4317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X</m:t>
                        </m:r>
                      </m:num>
                      <m:den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/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X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067280" y="2492280"/>
                <a:ext cx="2236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14840" y="3281400"/>
                <a:ext cx="3376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rPr>
                            <m:lit/>
                            <m:nor/>
                          </m:rPr>
                          <m:t xml:space="preserve">π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2 </m:t>
                    </m:r>
                    <m:r>
                      <m:rPr>
                        <m:lit/>
                        <m:nor/>
                      </m:rPr>
                      <m:t xml:space="preserve">π </m:t>
                    </m:r>
                    <m:r>
                      <m:rPr>
                        <m:lit/>
                        <m:nor/>
                      </m:rPr>
                      <m:t xml:space="preserve">CR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067280" y="4581360"/>
                <a:ext cx="25304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67280" y="5516640"/>
                <a:ext cx="3355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 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 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แฟกเตอร์คุณภาพและแบนด์วิดท์ในวงจรขนาน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19280" y="5516640"/>
            <a:ext cx="7237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กราฟแรงดันและกระแสที่ความถี่เรโซแนนซ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สภาวะเรโซแนนซ์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197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763640" y="836280"/>
            <a:ext cx="413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Arial"/>
                <a:cs typeface="LilyUPC"/>
              </a:rPr>
              <a:t>สภาวะเรโซแนนซ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3960720" cy="309564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348000" y="2421000"/>
            <a:ext cx="0" cy="216036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4" name="ARP_01_W_COUGH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83628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Arial"/>
                <a:cs typeface="LilyUPC"/>
              </a:rPr>
              <a:t>วงจรเรโซแนนซ์แบบ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18920" y="5660640"/>
            <a:ext cx="698508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496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วงจรเรโซแนนซ์แบบอนุกร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198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49920" y="486900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333333"/>
                </a:solidFill>
                <a:latin typeface="Angsana New"/>
              </a:rPr>
              <a:t>ส่วนประกอบแต่ละส่ว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6560" y="4869000"/>
            <a:ext cx="34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33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333333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333333"/>
                </a:solidFill>
                <a:latin typeface="Angsana New"/>
              </a:rPr>
              <a:t>) </a:t>
            </a:r>
            <a:r>
              <a:rPr b="1" lang="th-TH" sz="2400" spc="-1" strike="noStrike">
                <a:solidFill>
                  <a:srgbClr val="333333"/>
                </a:solidFill>
                <a:latin typeface="Angsana New"/>
              </a:rPr>
              <a:t>ส่วนประกอบรวมค่า </a:t>
            </a: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ngsana New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แบบ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476360" y="2276640"/>
            <a:ext cx="7345440" cy="237636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343840" y="2637000"/>
            <a:ext cx="723240" cy="187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33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9fddf1"/>
                </a:solidFill>
                <a:latin typeface="Wingdings 3"/>
                <a:ea typeface="Wingdings 3"/>
              </a:rPr>
              <a:t></a:t>
            </a:r>
            <a:endParaRPr b="0" lang="en-US" sz="1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 rot="5400000">
            <a:off x="7062480" y="2672640"/>
            <a:ext cx="334800" cy="83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6048384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6048384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3480" y="24415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ngsana New"/>
              </a:rPr>
              <a:t>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67240" y="3573360"/>
            <a:ext cx="3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ngsana New"/>
              </a:rPr>
              <a:t>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4" name="ARP_01_W_COUGH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198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4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16360" y="1125360"/>
                <a:ext cx="3025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916360" y="1989000"/>
                <a:ext cx="511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R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16360" y="2781360"/>
                <a:ext cx="107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16360" y="3645000"/>
                <a:ext cx="2663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4508640"/>
                <a:ext cx="2320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แบบ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75720" y="2781360"/>
            <a:ext cx="39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ี่ตำแหน่งเรโซแนนซ์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907560"/>
            <a:ext cx="5978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Angsana New"/>
                <a:cs typeface="LilyUPC"/>
              </a:rPr>
              <a:t>ค่าความเหนี่ยวนำและค่าความจุ</a:t>
            </a:r>
            <a:br>
              <a:rPr sz="4800"/>
            </a:br>
            <a:r>
              <a:rPr b="1" i="1" lang="th-TH" sz="4800" spc="-1" strike="noStrike">
                <a:solidFill>
                  <a:srgbClr val="9fddf1"/>
                </a:solidFill>
                <a:latin typeface="Angsana New"/>
                <a:cs typeface="LilyUPC"/>
              </a:rPr>
              <a:t>ที่ความถี่เรโซแนนซ์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02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/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5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924360" y="2637000"/>
                <a:ext cx="2305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 f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24360" y="3860640"/>
                <a:ext cx="23050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 f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ค่าความเหนี่ยวนำและค่าความจุที่ความถี่เรโซแนนซ์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Arial"/>
                <a:cs typeface="LilyUPC"/>
              </a:rPr>
              <a:t>แฟกเตอร์คุณภาพของเรโซแนนซ์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05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6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19640" y="2133720"/>
                <a:ext cx="3125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56000" y="3284640"/>
                <a:ext cx="148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27640" y="4292640"/>
                <a:ext cx="1368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แฟกเตอร์คุณภาพของเรโซแนนซ์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47280" y="5734080"/>
            <a:ext cx="713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ค่าคุณภาพของวงจรอนุกรม  </a:t>
            </a:r>
            <a:r>
              <a:rPr b="1" i="1" lang="en-US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(Q   )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ที่จุดเรโซแนนซ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06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12/7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059280" y="620640"/>
                <a:ext cx="24285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59280" y="1557360"/>
                <a:ext cx="3627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 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 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774760" y="602136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แฟกเตอร์คุณภาพของเรโซแนนซ์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059280" y="2565360"/>
            <a:ext cx="3600360" cy="302436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</p:spTree>
  </p:cSld>
  <p:transition spd="slow" advTm="30000">
    <p:cover dir="ru"/>
    <p:sndAc>
      <p:stSnd>
        <p:snd r:embed="rId4" name="ARP_01_W_COUGH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5906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2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9fddf1"/>
                </a:solidFill>
                <a:latin typeface="Dotum"/>
                <a:cs typeface="JasmineUPC"/>
              </a:rPr>
              <a:t>แบนด์วิดท์ในวงจรอนุกร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6247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บนด์วิดท์ คือ ช่วงความกว้างของความถี่ที่วงจร                เรโซแนนซ์ให้การตอบสนอ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2524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ngsana New"/>
                <a:ea typeface="LilyUPC"/>
              </a:rPr>
              <a:t>   </a:t>
            </a:r>
            <a:r>
              <a:rPr b="1" i="1" lang="th-TH" sz="3200" spc="-1" strike="noStrike">
                <a:solidFill>
                  <a:srgbClr val="ffffff"/>
                </a:solidFill>
                <a:latin typeface="Angsana New"/>
                <a:cs typeface="LilyUPC"/>
              </a:rPr>
              <a:t>รูปกราฟแสดงแบนด์วิดท์ของวงจรเรโซแนนซ์แบบอนุกร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07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8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แบนด์วิดท์ในวงจร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3888000" cy="2663640"/>
          </a:xfrm>
          <a:prstGeom prst="rect">
            <a:avLst/>
          </a:prstGeom>
          <a:ln w="9360">
            <a:solidFill>
              <a:srgbClr val="9fddf1"/>
            </a:solidFill>
            <a:miter/>
          </a:ln>
        </p:spPr>
      </p:pic>
    </p:spTree>
  </p:cSld>
  <p:transition spd="slow" advTm="30000">
    <p:cover dir="ru"/>
    <p:sndAc>
      <p:stSnd>
        <p:snd r:embed="rId4" name="ARP_01_W_COUGH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f6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1600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146c88">
                  <a:alpha val="94117"/>
                </a:srgbClr>
              </a:gs>
              <a:gs pos="50000">
                <a:srgbClr val="c89542">
                  <a:alpha val="61176"/>
                </a:srgbClr>
              </a:gs>
              <a:gs pos="100000">
                <a:srgbClr val="146c88">
                  <a:alpha val="9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3333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208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fddf1"/>
              </a:gs>
              <a:gs pos="100000">
                <a:srgbClr val="49656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12</a:t>
            </a:r>
            <a:r>
              <a:rPr b="1" lang="en-US" sz="1200" spc="-1" strike="noStrike">
                <a:solidFill>
                  <a:srgbClr val="333333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333333"/>
                </a:solidFill>
                <a:latin typeface="Angsana New"/>
              </a:rPr>
              <a:t>9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24360" y="1628640"/>
                <a:ext cx="1954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924360" y="2349360"/>
                <a:ext cx="1577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35440" y="3500280"/>
                <a:ext cx="33116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π 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π 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9656f"/>
              </a:gs>
              <a:gs pos="50000">
                <a:srgbClr val="9fddf1"/>
              </a:gs>
              <a:gs pos="100000">
                <a:srgbClr val="4965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วงจรเรโซแนนซ์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333333"/>
                </a:solidFill>
                <a:latin typeface="Angsana New"/>
                <a:cs typeface="EucrosiaUPC"/>
              </a:rPr>
              <a:t>แบนด์วิดท์ในวงจรอนุกรม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30000">
    <p:cover dir="ru"/>
    <p:sndAc>
      <p:stSnd>
        <p:snd r:embed="rId3" name="ARP_01_W_COUGH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8:29Z</dcterms:created>
  <dc:creator>ADMIN</dc:creator>
  <dc:description/>
  <dc:language>en-US</dc:language>
  <cp:lastModifiedBy>พี่อุอุ๊</cp:lastModifiedBy>
  <dcterms:modified xsi:type="dcterms:W3CDTF">2005-11-14T04:21:54Z</dcterms:modified>
  <cp:revision>53</cp:revision>
  <dc:subject/>
  <dc:title>งานนำเสนอ PowerPoint</dc:title>
</cp:coreProperties>
</file>